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B7E-2459-479E-B475-1CA8F4DD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F37-0964-4E15-8090-90DFF38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5A2-EE96-43B5-A4EA-04CCA99B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DA1-5ED5-4F9A-99FE-15F2838D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64DB-C86C-4805-9DDC-1DD39E06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FE10-1A58-4464-8D64-3134F4E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9992-333F-43A8-955E-732C7C62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E857-1EB8-450C-9A62-7E1ECBBA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7F38-B9C0-41DA-9339-7D4D6C6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A6EA-ACE4-4B45-AA7A-2D395AE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4F69-35FE-45B1-A6D5-B096E61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C82-6BD4-4B66-81A1-B7FE66A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EA7-23F5-4E4D-8FCD-449AB0C4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4AB4-0E4B-436D-BCC2-A775DF0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8E4A-0C8E-4D5A-B566-4592CD89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D5E3-B212-4936-A1EA-E10D0E25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0009-E3D5-411E-8BB4-25A69E0C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257-B657-4085-8427-48E713F6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E3B-6A2A-4AEF-A6AC-A6325169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00B-62DC-4BCB-BDD0-AA5A8C09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889-79C8-42FF-B040-20B5B064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E0A-182D-4AA3-BDAC-2BB1696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276-11C6-4CF7-995D-7BE16E52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711-D840-4BA3-9874-8AF739E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BA1A-AE8D-4D8B-997A-BF77E87EEF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88F0-AD31-4AA8-AC1E-990B07EC81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Урок русского языка в 5 класс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онимы и антони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Красавцева Наталья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курс фил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ГПИ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Что такое ЛЕКСИКОЛОГИЯ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Проблемные 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такое син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ля чего нужны син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такое контекстуальные син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такое ант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ля чего нужны антон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Times New Roman"/>
              </a:rPr>
              <a:t>Цели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знакомить учащихся с понятиями синонимы и антон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формировать у учащихся умения подбирать синонимы и антонимы к сло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учить учащихся видеть синонимы и антонимы в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редставление результатов исследова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Букл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еб-с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езентация докла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очинение или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Творческие задания (инсценировка, творческая презентация, составление словарей синонимов и антонимов на различную темати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родолжительность проект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Этапы проведения проект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ыбор и формулировка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амостоятельная работа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Защит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Информационные ресурс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чебники и учебные посо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нтернет -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0-05-06T05:29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